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7745-ED85-401C-A49F-3330562BB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5CF8-4611-488D-83BE-4C17256D41E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4005-ABD3-4394-8844-642AACAC02F1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69B7-CD73-41D5-92F4-6088ACEE7A33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EC13-5235-487D-ADED-C3789A5098D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8686-DCBD-4B2D-B75C-5DC173AF0B4C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8FA4-B965-4DBD-BFAB-4D87A8A3930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D068-5A1B-48F5-8EE3-0F83D434F92E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67F1-7235-4B8F-9626-18D483509FBF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29A9-CF9A-487A-BA80-B475670D95B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9E8E-07D8-41ED-9E29-C29106368ACC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AD3F-CEE9-4898-A644-C90F4020CCAD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1267-35C4-4BBE-82C4-7EFA9314D37A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olarnavigator.net/history/explorers_history/aztec_warrior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EB4B-02AA-485F-9215-1057C43668C9}" type="slidenum">
              <a:rPr b="0" lang="en-US" sz="1200" spc="-1" strike="noStrike">
                <a:solidFill>
                  <a:srgbClr val="ffff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1F7-F12D-4715-8004-048B8D96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FCE-C3F5-4BD0-B2A8-48782A93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138F-C6DD-4BA2-873F-FD0CEFDF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7932-B512-42FF-8F8C-F8688332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B9F-EEE9-4FE1-9857-D10A210D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32D8-B9E5-4A19-8EDF-ACAEA017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1145-C76D-4E91-AED8-21AE0CCB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00F4-2286-4396-A69D-A459E6F4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985-B71D-4DD7-8C85-5C07F4AA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FD27-BED5-4EA6-B520-681DA844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78CA-EDCF-448E-8666-9DDABA56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CCE4-8F8B-4C49-920F-B6D3AC71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AA74-0716-402B-A224-E50190C5AE81}" type="slidenum"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Bernard MT Condensed"/>
              </a:rPr>
              <a:t>Dos volcanes y un amor</a:t>
            </a:r>
            <a:endParaRPr b="0" lang="en-US" sz="48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373392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Los tres corren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Xochiquétzal, furiosa, lanzó una mirada de odio profundo contra e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tlaxcalteca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que la había hecho su esposa diciéndole que su amado guerrero había muerto en la lucha. Llorando su desventura echó a correr por la llanura. El guerrero la vió correr despavorida seguida del marido, y separándose de las filas de los guerreros humillados se lanzó en su persecusión</a:t>
            </a: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La lucha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Toda palabra estaba de sobra; el tlaxcalteca tomó el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Lucida Grande"/>
              </a:rPr>
              <a:t>venablo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(javelin) de punta de pedernal que ocultaba bajo la tilma y el azteca esgrimió su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Lucida Grande"/>
              </a:rPr>
              <a:t>macana</a:t>
            </a: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(arma azteca) incrustada de dientes de jaguar y de jabalí. Se fueron alejando por el valle y al fin, casi al atardecer, el azteca pudo herir de muerte al artero tlaxcalteca quien huyó hacia su país.</a:t>
            </a:r>
            <a:endParaRPr b="0" lang="en-US" sz="2200" spc="-1" strike="noStrike">
              <a:solidFill>
                <a:srgbClr val="ffff66"/>
              </a:solidFill>
              <a:latin typeface="Century Gothic"/>
            </a:endParaRPr>
          </a:p>
          <a:p>
            <a:pPr marL="312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2878200" cy="411480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0" name="Picture 6" descr="178px-Macahuitl"/>
          <p:cNvPicPr/>
          <p:nvPr/>
        </p:nvPicPr>
        <p:blipFill>
          <a:blip r:embed="rId3"/>
          <a:stretch/>
        </p:blipFill>
        <p:spPr>
          <a:xfrm>
            <a:off x="7848720" y="2286000"/>
            <a:ext cx="108432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La muerte de la chica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26708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l vencedor regresó buscando a su querida Xochiquétzal pero la encontró muerta en mitad del valle. Una mujer como ella no podía vivir soportando la pena y la vergüenza de haber sido de otro hombre, cuando en realidad lo amaba a él. El guerrero azteca se arrodilló y lloró junto a ella, la adornó con bellas flores y quemó copal.</a:t>
            </a: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3809880" y="1487520"/>
            <a:ext cx="4648320" cy="432288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6" name="Picture 6" descr="ixta_popo_02_640.jpg"/>
          <p:cNvPicPr/>
          <p:nvPr/>
        </p:nvPicPr>
        <p:blipFill>
          <a:blip r:embed="rId3"/>
          <a:stretch/>
        </p:blipFill>
        <p:spPr>
          <a:xfrm>
            <a:off x="4927680" y="2743200"/>
            <a:ext cx="421632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La creación de los volcanes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Y se estremeció la tierra y el relámpago atronó, se anubló el cielo y cayeron piedras de fuego sobre los cinco lagos.</a:t>
            </a: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 amanecer estaban allí, donde antes era valle, dos hermosas montaña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nevadas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, una que tenía la forma de una muje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yacente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y otra alta, con la forma del guerrero aztec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arrodillado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, con su penacho humeante.</a:t>
            </a: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Los dos volcanes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520" y="1980720"/>
            <a:ext cx="5334120" cy="487692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Grande"/>
              </a:rPr>
              <a:t>Desde entonces, los dos volcanes recibieron los nombres de Ixtacíhuatl, que quiere decir "mujer dormida", y Popocatéptl, "montaña que humea". El cobarde y engañador tlaxcalteca fue a morir desorientado cerca de su tierra, haciéndose montaña también, con el nombre de Citlaltépetl o "cerro de la estrella" donde desde lejos vigila el sueño de los dos amantes a quienes jamás podrá separar.</a:t>
            </a:r>
            <a:endParaRPr b="0" lang="en-US" sz="22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115" name="Picture 8" descr="PopoPh3G"/>
          <p:cNvPicPr/>
          <p:nvPr/>
        </p:nvPicPr>
        <p:blipFill>
          <a:blip r:embed="rId2"/>
          <a:stretch/>
        </p:blipFill>
        <p:spPr>
          <a:xfrm>
            <a:off x="685800" y="1981080"/>
            <a:ext cx="2971800" cy="198144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16" name="Picture 10" descr="poporupt"/>
          <p:cNvPicPr/>
          <p:nvPr/>
        </p:nvPicPr>
        <p:blipFill>
          <a:blip r:embed="rId3"/>
          <a:stretch/>
        </p:blipFill>
        <p:spPr>
          <a:xfrm>
            <a:off x="685800" y="4114800"/>
            <a:ext cx="3017880" cy="198108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4" name="Picture 2" descr="PopoPh3G"/>
          <p:cNvPicPr/>
          <p:nvPr/>
        </p:nvPicPr>
        <p:blipFill>
          <a:blip r:embed="rId2"/>
          <a:stretch/>
        </p:blipFill>
        <p:spPr>
          <a:xfrm>
            <a:off x="380880" y="838080"/>
            <a:ext cx="8305920" cy="5537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6553440" cy="53352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La mujer dormida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8" name="Picture 2" descr="izta"/>
          <p:cNvPicPr/>
          <p:nvPr/>
        </p:nvPicPr>
        <p:blipFill>
          <a:blip r:embed="rId2"/>
          <a:stretch/>
        </p:blipFill>
        <p:spPr>
          <a:xfrm>
            <a:off x="0" y="246240"/>
            <a:ext cx="914400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61" name="Picture 3" descr="poporupt"/>
          <p:cNvPicPr/>
          <p:nvPr/>
        </p:nvPicPr>
        <p:blipFill>
          <a:blip r:embed="rId2"/>
          <a:stretch/>
        </p:blipFill>
        <p:spPr>
          <a:xfrm>
            <a:off x="0" y="0"/>
            <a:ext cx="5299200" cy="3478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popofromiztac"/>
          <p:cNvPicPr/>
          <p:nvPr/>
        </p:nvPicPr>
        <p:blipFill>
          <a:blip r:embed="rId3"/>
          <a:stretch/>
        </p:blipFill>
        <p:spPr>
          <a:xfrm>
            <a:off x="4729320" y="0"/>
            <a:ext cx="4414680" cy="6097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opopeak"/>
          <p:cNvPicPr/>
          <p:nvPr/>
        </p:nvPicPr>
        <p:blipFill>
          <a:blip r:embed="rId4"/>
          <a:stretch/>
        </p:blipFill>
        <p:spPr>
          <a:xfrm>
            <a:off x="990720" y="3962520"/>
            <a:ext cx="2851200" cy="1963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La montaña que humea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Ixtacíhuatl y Popocatépt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eyenda náhuatl, mexica o azteca. México.</a:t>
            </a:r>
            <a:br>
              <a:rPr sz="2800"/>
            </a:b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191120" cy="518148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El ejército del imperio azteca regresaba de las guerras floridas. Pero no había música ni sonidos de fiesta. No se olía 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copal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en los templos, lo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pebetero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(incense burner) del dios cojo de la guerra, Tezcatlipoca, se hallaban apagados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. 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3809880" cy="319896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685800"/>
            <a:ext cx="4343400" cy="541008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Los estandartes estaban caídos y las ropas de los má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destacados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(outstanding) guerreros eran unos jirones e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sangre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ntados. El consejo de los Yopica, los viejos y sabios maestros del arte de la estrategia, aguardaban ansiosos la explicación de la vergonzosa derrota.</a:t>
            </a: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74" name="Picture 7" descr="sacrificios_guerra_florida"/>
          <p:cNvPicPr/>
          <p:nvPr/>
        </p:nvPicPr>
        <p:blipFill>
          <a:blip r:embed="rId2"/>
          <a:stretch/>
        </p:blipFill>
        <p:spPr>
          <a:xfrm>
            <a:off x="5657760" y="1066680"/>
            <a:ext cx="2617920" cy="289584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  <p:pic>
        <p:nvPicPr>
          <p:cNvPr id="75" name="Picture 10" descr="sacrificio_corazon"/>
          <p:cNvPicPr/>
          <p:nvPr/>
        </p:nvPicPr>
        <p:blipFill>
          <a:blip r:embed="rId3"/>
          <a:stretch/>
        </p:blipFill>
        <p:spPr>
          <a:xfrm>
            <a:off x="5205240" y="4114800"/>
            <a:ext cx="3557880" cy="261468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Las tropas vuelven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572000" cy="518184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Hacía ya dos ciclos lunares que la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Grande"/>
              </a:rPr>
              <a:t>huestes(tropas)</a:t>
            </a: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 habían partido hacia las tierras de los Olmecas, Xicalancas y Zapotecas para añadirlas al señorío mexica. Se pensaba ya en un asentamiento de conquista y sin embargo, a pesar de todo su esfuerzo, su valor y conocimientos, los guerreros volvían menguados en número con sus armas rotas.</a:t>
            </a: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685800" y="2065320"/>
            <a:ext cx="3809880" cy="394488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El amante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Al frente de esta tropa triste venía un guerrero, que a pesar de sus ropas desgarradas, conservaba su gallardía, su altivez y el orgullo de su estirpe(lineage).</a:t>
            </a: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4648320" y="2117880"/>
            <a:ext cx="3809880" cy="3840120"/>
          </a:xfrm>
          <a:prstGeom prst="rect">
            <a:avLst/>
          </a:prstGeom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</p:pic>
      <p:pic>
        <p:nvPicPr>
          <p:cNvPr id="86" name="Picture 6" descr="aztec_warrior.jpg"/>
          <p:cNvPicPr/>
          <p:nvPr/>
        </p:nvPicPr>
        <p:blipFill>
          <a:blip r:embed="rId3"/>
          <a:stretch/>
        </p:blipFill>
        <p:spPr>
          <a:xfrm>
            <a:off x="4843440" y="1730520"/>
            <a:ext cx="323388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La llegada al pueblo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029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Los hombres ocultaban sus rostros y las llorosas mujeres escondían a los niños para que n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fueran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 testigos del vergonzoso retorno. Sólo una mujer, Xochiquétzal, no lloraba, miraba con asombro a aquel guerrero que altivo y sereno quería demostrar que había luchado y perdid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Lucida Grande"/>
              </a:rPr>
              <a:t>en buena lid</a:t>
            </a: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(fair fight) contra un ejército mucho más numeroso. Y entonces palideció al sentir la mirada del guerrero sobre ella, pues reconoció en él a su amado, al hombre a quien le había jurado amor eterno.</a:t>
            </a: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2:49:07Z</dcterms:created>
  <dc:creator>Thayer Academy</dc:creator>
  <dc:description/>
  <dc:language>en-US</dc:language>
  <cp:lastModifiedBy>Thayer Academy</cp:lastModifiedBy>
  <dcterms:modified xsi:type="dcterms:W3CDTF">2009-05-21T14:02:36Z</dcterms:modified>
  <cp:revision>11</cp:revision>
  <dc:subject/>
  <dc:title>Dos volcanes y un amor</dc:title>
</cp:coreProperties>
</file>